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D784-E0F4-491A-9FCA-2C2F4C1B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C1BF-5DC0-446C-8DFB-8C93150A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1DA-88A1-4BC8-B397-E7DA91B1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50A-65E2-485A-A057-568D1B5E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81BF-8470-4A0F-A55C-718440D1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8D17-484D-48C5-957A-782AFCE7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BB85-EA7F-4F86-A0B5-F24E3B91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4FAA-9AED-403C-B501-C2337011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B36C-19B5-4F8D-A2E9-403985EC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1290-3D79-4B63-93BB-3BB6F765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D5C4-7FDB-4C1D-B03A-CB7C2F2C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0BBF-BD88-48E3-B181-FFA23924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5A5C-5609-4A46-AB25-AAD26060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B011-EBCC-4D52-865B-D3F869DC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19B3-AD55-41BE-9D37-22C6DCEC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7428-7DCC-4AAB-9FB4-996D19B9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2BF3-3EB0-46D5-BE88-98976779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4374-55C2-44BC-9F51-40F08FC1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962-F7E2-4D6B-8F29-BF4059FC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B6A0-950A-445C-A227-8C5732E5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FBD9-90A2-43C0-B0F8-32FC4B5C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A07-C7C1-4158-81A2-EEBDC58E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0408-A8B9-419B-A1FD-3B1A7F4F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5C9-A553-4689-8EDF-D0925634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FC1E-A430-4045-9892-7A7ED5CF5C3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AA41-21D9-41EE-97EB-A0C78AE03C7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sent Perfect and Past Si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31520" y="1873080"/>
            <a:ext cx="377028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йствие закончен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has eaten a pi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н съел пирожок.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05480" y="1909440"/>
            <a:ext cx="37764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T SI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йствие может быть не законче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ate sweets five minutes a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н ел конфеты пять минут назад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0320" y="-10791720"/>
            <a:ext cx="601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4392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NT PERF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ремя действия не указано или используются слова: только что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just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уж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already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ещё нет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not yet)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ha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u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un marath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e ha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read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one her homewor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hav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itten a compositio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3280" y="260280"/>
            <a:ext cx="4105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T SI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казано время действия в прошлом: тому наза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ago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в прошлом год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last year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вчер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yesterday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ent to Moscow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did exercises two hour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g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watched TV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76840" y="-9361080"/>
            <a:ext cx="586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40384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ть связь с текущим момент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have run a kilometer, so I am ti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жет быть указано, сколько раз выполнялось действ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have been to Paris three ti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00360" y="404280"/>
            <a:ext cx="40366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T SI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т связи с текущим момент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ran a kilometer yesterda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47440" y="-10761840"/>
            <a:ext cx="680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418320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s g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lun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s not g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lun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  Ha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lunch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3280" y="259920"/>
            <a:ext cx="410544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T SI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lunch an hour a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d not g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lunch an hour a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lunch an hour ag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потреблени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Present Perfect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st Simple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 речи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4840" y="2147400"/>
            <a:ext cx="741492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Lond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Yes, I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Whe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I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re last summ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084720" y="2349360"/>
            <a:ext cx="2664000" cy="578160"/>
          </a:xfrm>
          <a:prstGeom prst="wedgeRoundRectCallout">
            <a:avLst>
              <a:gd name="adj1" fmla="val -96902"/>
              <a:gd name="adj2" fmla="val -60990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Per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27640" y="3284640"/>
            <a:ext cx="2448000" cy="647640"/>
          </a:xfrm>
          <a:prstGeom prst="wedgeRoundRectCallout">
            <a:avLst>
              <a:gd name="adj1" fmla="val -105449"/>
              <a:gd name="adj2" fmla="val 61763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9T11:44:31Z</dcterms:created>
  <dc:creator>Home-LapoEE</dc:creator>
  <dc:description/>
  <dc:language>en-US</dc:language>
  <cp:lastModifiedBy>Home-LapoEE</cp:lastModifiedBy>
  <dcterms:modified xsi:type="dcterms:W3CDTF">2011-08-15T07:04:01Z</dcterms:modified>
  <cp:revision>8</cp:revision>
  <dc:subject/>
  <dc:title>Present Perfect and Past Simple</dc:title>
</cp:coreProperties>
</file>