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019-45C1-46A5-A77A-DD9AEFA5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CBE-2D20-4095-B24D-7386CE01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57E-71BD-4CD7-A23A-D1040FCA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E96-ACE1-48D2-A9A7-F1ECCECD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2B27-E863-4A6C-8E7F-6547B111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37B3-6569-4D45-8797-AAF35920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F3E3-45B4-4FA7-A70D-3D43E1C7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10DF-D71D-486D-A151-55E040CD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E54A-4411-4D0C-BB16-EADAEA25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9560-8CC6-4E8F-8D23-AFCB7627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3E60-7B3E-448D-8A06-9679C6C0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4FC-69E5-4347-82D6-BE2B59DD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DDC0-E38B-410D-8A48-D70B1FF7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DF37-C927-4677-AD72-439BAE80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73D3-B713-4083-8FBA-1707342E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E2CA-8384-44B5-9D10-90D4458F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3C28-37E3-4FFA-B4B2-3278F7DC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53C-5B29-4568-B330-3C19CB96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2AD-49DB-4D27-9748-2E627553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79FE-3C11-408F-8595-EEB6B374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1C8-6278-41FA-9417-971974A4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B61-D8CF-4E26-95C4-ED5FB141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4D9-522B-4CA2-879B-40E5BD87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8D9-89BF-4033-8AF8-7C4A6BDF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2E50-F389-4A25-AEB0-18467031DE9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6459-E994-446E-B5F9-2C84851B982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ent Perfect and Past Si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31520" y="1873080"/>
            <a:ext cx="377028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йствие закончен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has eaten a pi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 съел пирожок.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05480" y="1909440"/>
            <a:ext cx="37764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йствие может быть не законче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ate sweets five minutes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 ел конфеты пять минут наза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0320" y="-10791720"/>
            <a:ext cx="60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4392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ремя действия не указано или используются слова: только чт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just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уж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lready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ещё нет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not yet)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h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u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un marath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 h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rea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ne her homewor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hav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itten a composi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3280" y="260280"/>
            <a:ext cx="4105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казано время действия в прошлом: тому наза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go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 прошлом год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last year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чер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yesterday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ent to Moscow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did exercises two hour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g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watched TV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76840" y="-9361080"/>
            <a:ext cx="586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ть связь с текущим момент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have run a kilometer, so I am t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ет быть указано, сколько раз выполнялось действ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have been to Paris three ti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00360" y="404280"/>
            <a:ext cx="40366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 связи с текущим момент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ran a kilometer yesterd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47440" y="-10761840"/>
            <a:ext cx="680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41832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s g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s not g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  H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3280" y="259920"/>
            <a:ext cx="410544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 an hour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d not g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 an hour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 an hour ag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потреблени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Present Perfect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st Simple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 реч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4840" y="2147400"/>
            <a:ext cx="741492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Lond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Yes, I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Whe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I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re last summ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084720" y="2349360"/>
            <a:ext cx="2664000" cy="578160"/>
          </a:xfrm>
          <a:prstGeom prst="wedgeRoundRectCallout">
            <a:avLst>
              <a:gd name="adj1" fmla="val -96902"/>
              <a:gd name="adj2" fmla="val -60990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27640" y="3284640"/>
            <a:ext cx="2448000" cy="647640"/>
          </a:xfrm>
          <a:prstGeom prst="wedgeRoundRectCallout">
            <a:avLst>
              <a:gd name="adj1" fmla="val -105449"/>
              <a:gd name="adj2" fmla="val 61763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9T11:44:31Z</dcterms:created>
  <dc:creator>Home-LapoEE</dc:creator>
  <dc:description/>
  <dc:language>en-US</dc:language>
  <cp:lastModifiedBy>Home-LapoEE</cp:lastModifiedBy>
  <dcterms:modified xsi:type="dcterms:W3CDTF">2011-08-15T07:04:01Z</dcterms:modified>
  <cp:revision>8</cp:revision>
  <dc:subject/>
  <dc:title>Present Perfect and Past Simple</dc:title>
</cp:coreProperties>
</file>