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F764-D5EF-4F81-9F98-98D5FC79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63D6-5382-4642-B788-D085A8AC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05F7-F27A-4CBE-B116-9493B029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57DB-F448-4DA9-B868-3E3B89C3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F44C-B266-447B-A677-90EA9FEB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F9C7-1C01-4694-915F-D643A325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C885-E142-46B4-9B7C-E676E4B1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C58E-D6AA-4FA8-B0AA-B0A93DF0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9E7F-D6E6-4BC9-9710-4DA5ED34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FB56-77EA-476F-BC0D-34AB961F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572F-2AD3-4A25-8DA3-7AEF5883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6818-7DEE-4180-BD52-BF2E22A9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13E8-B411-486D-B7D7-9B06B0C4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4E43-4512-4867-AD47-51AA2989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7F13-1071-4402-9213-D5E3C352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EAFF-11AE-40ED-97A8-D0660CE94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F435-3DDC-44B5-9A6C-1F6EAE8E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E606-D91F-49AB-A8CF-B0234803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BFC9-6915-4F02-A798-328D4209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AEEF-82C2-479A-AE9F-B91D0B9D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29EE-E712-4303-9084-96CCF023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FBCF-DBBE-45F5-9AD6-B933D6C5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F35C-3F9A-4B36-A456-BBC5C2FF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134F-9542-44E3-ADD2-4D903F56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B06F-4606-46D4-B134-9ECE6953536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1CB6-315C-4628-8A3D-8C868980569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sent Perfect and Past Si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31520" y="1873080"/>
            <a:ext cx="3770280" cy="36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NT PERF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йствие закончен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has eaten a pi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н съел пирожок.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05480" y="1909440"/>
            <a:ext cx="37764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T SI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ействие может быть не закончен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ate sweets five minutes a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н ел конфеты пять минут назад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30320" y="-10791720"/>
            <a:ext cx="601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4392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ENT PERF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ремя действия не указано или используются слова: только что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just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уж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already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ещё нет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not yet)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 ha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u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un marath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e ha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read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one her homewor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hav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itten a compositio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3280" y="260280"/>
            <a:ext cx="4105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T SI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казано время действия в прошлом: тому наза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ago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в прошлом год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last year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вчер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yesterday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ent to Moscow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e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did exercises two hour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g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watched TV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esterda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76840" y="-9361080"/>
            <a:ext cx="586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40384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NT PERF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ть связь с текущим момент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have run a kilometer, so I am tir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жет быть указано, сколько раз выполнялось действ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have been to Paris three tim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00360" y="404280"/>
            <a:ext cx="40366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T SI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т связи с текущим момент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ran a kilometer yesterda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47440" y="-10761840"/>
            <a:ext cx="680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418320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NT PERF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s go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lunc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s not go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lunc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?  Ha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o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lunch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3280" y="259920"/>
            <a:ext cx="410544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ST SI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lunch an hour a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d not g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lunch an hour ag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lunch an hour ag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8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потребление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Present Perfect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ast Simple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 речи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4840" y="2147400"/>
            <a:ext cx="741492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Lond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Yes, I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Whe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I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re last summe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084720" y="2349360"/>
            <a:ext cx="2664000" cy="578160"/>
          </a:xfrm>
          <a:prstGeom prst="wedgeRoundRectCallout">
            <a:avLst>
              <a:gd name="adj1" fmla="val -96902"/>
              <a:gd name="adj2" fmla="val -60990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Per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27640" y="3284640"/>
            <a:ext cx="2448000" cy="647640"/>
          </a:xfrm>
          <a:prstGeom prst="wedgeRoundRectCallout">
            <a:avLst>
              <a:gd name="adj1" fmla="val -105449"/>
              <a:gd name="adj2" fmla="val 61763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9T11:44:31Z</dcterms:created>
  <dc:creator>Home-LapoEE</dc:creator>
  <dc:description/>
  <dc:language>en-US</dc:language>
  <cp:lastModifiedBy>Home-LapoEE</cp:lastModifiedBy>
  <dcterms:modified xsi:type="dcterms:W3CDTF">2011-08-15T07:04:01Z</dcterms:modified>
  <cp:revision>8</cp:revision>
  <dc:subject/>
  <dc:title>Present Perfect and Past Simple</dc:title>
</cp:coreProperties>
</file>