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D9E-5AC6-4B15-8BDB-C6ABCDCC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914-D5CF-4253-864C-BD777FAD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531-AA14-40CB-B830-397A7245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842-B0F1-4754-AB67-B789E095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0CB-75AC-4618-B85D-6381E6F7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61E-581E-43EA-BE93-45B8273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70B-9D84-4199-B4CA-F082472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26E-ECD1-4BA9-A241-B3011F9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370A-91A3-4D62-BFD2-B0C874E9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2150-9A94-4285-B6DA-468DED0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C1C1-BAB7-4586-9016-03B5C26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A85-EA1B-4AD4-99FE-CFB5B80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ED0-5325-46EE-866D-5590ABB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80E6-9AD6-4D51-8635-F60FA9D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BB3-57E3-4418-8766-E00F7C0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4B50-7688-4BD1-ADCA-AB4C5231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37CB-939B-405D-9940-6A8105D2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C4A-81E7-44E0-BD83-9EA2BF1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EBD-B7C0-433A-811D-3EB23C8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8AB-7904-4B23-9B38-72412A6B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AC2-8213-48FE-8614-F69AB41C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C23-95A3-4E2B-ACA4-543FD15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426-1A13-4480-A53C-015F0AE1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E71-F63B-4547-BBA6-98A6ADFC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5EB9-7AFB-4020-AA52-3C9168D0C0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89CF-314C-4DB7-A8F5-8A3C4E8336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Perfect and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1520" y="1873080"/>
            <a:ext cx="3770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законче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has eaten a p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съел пирожок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5480" y="1909440"/>
            <a:ext cx="3776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может быть не законче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ate sweets five minute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ел конфеты пять минут наза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0320" y="-10791720"/>
            <a:ext cx="60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392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 действия не указано или используются слова: только чт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just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уж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lready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ещё н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t yet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marath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e her home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itten a composi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казано время действия в прошлом: тому наза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go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 прошлом год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ast year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чер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yesterda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nt to Moscow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did exercises two hour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tched TV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76840" y="-9361080"/>
            <a:ext cx="58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связь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run a kilometer, so I am t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быть указано, сколько раз выполнялось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been to Paris three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404280"/>
            <a:ext cx="40366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связи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an a kilometer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7440" y="-1076184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1832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not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 H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59920"/>
            <a:ext cx="41054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not 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отребле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resent Perfect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st Simple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ч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4840" y="2147400"/>
            <a:ext cx="741492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Lond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Yes, 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Whe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 last summ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84720" y="2349360"/>
            <a:ext cx="2664000" cy="578160"/>
          </a:xfrm>
          <a:prstGeom prst="wedgeRoundRectCallout">
            <a:avLst>
              <a:gd name="adj1" fmla="val -96902"/>
              <a:gd name="adj2" fmla="val -6099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3284640"/>
            <a:ext cx="2448000" cy="647640"/>
          </a:xfrm>
          <a:prstGeom prst="wedgeRoundRectCallout">
            <a:avLst>
              <a:gd name="adj1" fmla="val -105449"/>
              <a:gd name="adj2" fmla="val 6176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1:44:31Z</dcterms:created>
  <dc:creator>Home-LapoEE</dc:creator>
  <dc:description/>
  <dc:language>en-US</dc:language>
  <cp:lastModifiedBy>Home-LapoEE</cp:lastModifiedBy>
  <dcterms:modified xsi:type="dcterms:W3CDTF">2011-08-15T07:04:01Z</dcterms:modified>
  <cp:revision>8</cp:revision>
  <dc:subject/>
  <dc:title>Present Perfect and Past Simple</dc:title>
</cp:coreProperties>
</file>